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3574-2B28-4949-85A3-0D55215F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D85F-ED22-4DC8-8F99-95A22FD3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BFE5-25B0-4B8D-87DB-C7F5C060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CB72-3129-4A32-B824-7752ABC7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F48D-9BCF-4B7E-8709-42C872D8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2396-CCFD-4C60-BFE0-B6BA7346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A3B2-C4E0-46BA-802F-08C1D6BC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C0EF-8A6C-47D6-BAF0-02F248B4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A985-E961-42A9-B870-643D3A32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DEBB-EFE6-498E-84E1-4FBAB9E6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252-6E0B-488B-8810-99268537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C6C9-E3D7-4DCE-B818-13B2F174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1088-6AB4-44D4-A062-58DB3F7AA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Ultra Bold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Gill Sans Ultra Bold"/>
              </a:rPr>
              <a:t>LA RUTINA DE BUZZY EL ABE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864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BY Meera Patel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Sarah Christ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Hola! Se llama Buzzy, Buzzy es un abeja. </a:t>
            </a:r>
            <a:r>
              <a:rPr b="1" i="1" lang="en-US" sz="3600" spc="-1" strike="noStrike" u="sng">
                <a:solidFill>
                  <a:srgbClr val="808080"/>
                </a:solidFill>
                <a:uFillTx/>
                <a:latin typeface="Gill Sans Ultra Bold Condensed"/>
              </a:rPr>
              <a:t>Se despierta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 a las nueve y media est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  <a:ea typeface="Arial"/>
              </a:rPr>
              <a:t>á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 ma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  <a:ea typeface="Arial"/>
              </a:rPr>
              <a:t>ñ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ana. </a:t>
            </a:r>
            <a:r>
              <a:rPr b="1" i="1" lang="en-US" sz="3600" spc="-1" strike="noStrike" u="sng">
                <a:solidFill>
                  <a:srgbClr val="808080"/>
                </a:solidFill>
                <a:uFillTx/>
                <a:latin typeface="Gill Sans Ultra Bold Condensed"/>
              </a:rPr>
              <a:t>Se levanta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 esiguid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52280"/>
            <a:ext cx="82296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6491160"/>
            <a:ext cx="51055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Buzzy se levanta EL</a:t>
            </a:r>
            <a:r>
              <a:rPr b="1" lang="en-US" sz="3600" spc="-1" strike="noStrike">
                <a:solidFill>
                  <a:srgbClr val="808080"/>
                </a:solidFill>
                <a:latin typeface="Gill Sans Ultra Bold Condensed"/>
              </a:rPr>
              <a:t> </a:t>
            </a:r>
            <a:r>
              <a:rPr b="1" i="1" lang="en-US" sz="3600" spc="-1" strike="noStrike" u="sng">
                <a:solidFill>
                  <a:srgbClr val="808080"/>
                </a:solidFill>
                <a:uFillTx/>
                <a:latin typeface="Gill Sans Ultra Bold Condensed"/>
              </a:rPr>
              <a:t>se lava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 </a:t>
            </a:r>
            <a:r>
              <a:rPr b="1" i="1" lang="en-US" sz="3600" spc="-1" strike="noStrike" u="sng">
                <a:solidFill>
                  <a:srgbClr val="808080"/>
                </a:solidFill>
                <a:uFillTx/>
                <a:latin typeface="Gill Sans Ultra Bold Condensed"/>
              </a:rPr>
              <a:t>la cara</a:t>
            </a:r>
            <a:r>
              <a:rPr b="1" lang="en-US" sz="3600" spc="-1" strike="noStrike">
                <a:solidFill>
                  <a:srgbClr val="808080"/>
                </a:solidFill>
                <a:latin typeface="Gill Sans Ultra Bold Condensed"/>
              </a:rPr>
              <a:t> y sus alas. El 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prefiere una </a:t>
            </a:r>
            <a:r>
              <a:rPr b="0" i="1" lang="en-US" sz="3600" spc="-1" strike="noStrike" u="sng">
                <a:solidFill>
                  <a:srgbClr val="808080"/>
                </a:solidFill>
                <a:uFillTx/>
                <a:latin typeface="Gill Sans Ultra Bold Condensed"/>
              </a:rPr>
              <a:t>ducha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 para un </a:t>
            </a:r>
            <a:r>
              <a:rPr b="1" i="1" lang="en-US" sz="3600" spc="-1" strike="noStrike" u="sng">
                <a:solidFill>
                  <a:srgbClr val="808080"/>
                </a:solidFill>
                <a:uFillTx/>
                <a:latin typeface="Gill Sans Ultra Bold Condensed"/>
              </a:rPr>
              <a:t>baňa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649116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649116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6477120"/>
            <a:ext cx="50292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330240"/>
            <a:ext cx="82296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r>
              <a:rPr b="1" i="1" lang="en-US" sz="4000" spc="-1" strike="noStrike" u="sng">
                <a:solidFill>
                  <a:srgbClr val="808080"/>
                </a:solidFill>
                <a:uFillTx/>
                <a:latin typeface="Gill Sans Ultra Bold Condensed"/>
              </a:rPr>
              <a:t>Se pone la ropa</a:t>
            </a: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</a:rPr>
              <a:t>. Ahora</a:t>
            </a:r>
            <a:r>
              <a:rPr b="1" lang="en-US" sz="4000" spc="-1" strike="noStrike">
                <a:solidFill>
                  <a:srgbClr val="808080"/>
                </a:solidFill>
                <a:latin typeface="Gill Sans Ultra Bold Condensed"/>
              </a:rPr>
              <a:t> Buzzy est</a:t>
            </a:r>
            <a:r>
              <a:rPr b="1" lang="en-US" sz="4000" spc="-1" strike="noStrike">
                <a:solidFill>
                  <a:srgbClr val="808080"/>
                </a:solidFill>
                <a:latin typeface="Gill Sans Ultra Bold Condensed"/>
                <a:ea typeface="Arial"/>
              </a:rPr>
              <a:t>á</a:t>
            </a:r>
            <a:r>
              <a:rPr b="1" lang="en-US" sz="4000" spc="-1" strike="noStrike">
                <a:solidFill>
                  <a:srgbClr val="808080"/>
                </a:solidFill>
                <a:latin typeface="Gill Sans Ultra Bold Condensed"/>
              </a:rPr>
              <a:t>  muy hambrien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4120"/>
            <a:ext cx="82296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</a:rPr>
              <a:t>Buzzy </a:t>
            </a:r>
            <a:r>
              <a:rPr b="1" i="1" lang="en-US" sz="4000" spc="-1" strike="noStrike" u="sng">
                <a:solidFill>
                  <a:srgbClr val="808080"/>
                </a:solidFill>
                <a:uFillTx/>
                <a:latin typeface="Gill Sans Ultra Bold Condensed"/>
              </a:rPr>
              <a:t>se desayuna.</a:t>
            </a: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</a:rPr>
              <a:t> Está come el miel en </a:t>
            </a:r>
            <a:r>
              <a:rPr b="1" i="1" lang="en-US" sz="4000" spc="-1" strike="noStrike" u="sng">
                <a:solidFill>
                  <a:srgbClr val="808080"/>
                </a:solidFill>
                <a:uFillTx/>
                <a:latin typeface="Gill Sans Ultra Bold Condensed"/>
              </a:rPr>
              <a:t>el pan tostado</a:t>
            </a: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</a:rPr>
              <a:t>. También el gusta comer el nect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6477120"/>
            <a:ext cx="56386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29040" y="-519120"/>
            <a:ext cx="205740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Gill Sans Ultra Bold Condensed"/>
              </a:rPr>
              <a:t>Después del desayunar, Buzzy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Gill Sans Ultra Bold Condensed"/>
              </a:rPr>
              <a:t>se cepilla los dient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Gill Sans Ultra Bold Condensed"/>
              </a:rPr>
              <a:t>Luego, en la ma</a:t>
            </a:r>
            <a:r>
              <a:rPr b="0" lang="en-US" sz="4000" spc="-1" strike="noStrike">
                <a:solidFill>
                  <a:srgbClr val="000000"/>
                </a:solidFill>
                <a:latin typeface="Gill Sans Ultra Bold Condensed"/>
                <a:ea typeface="Arial"/>
              </a:rPr>
              <a:t>ñ</a:t>
            </a:r>
            <a:r>
              <a:rPr b="0" lang="en-US" sz="4000" spc="-1" strike="noStrike">
                <a:solidFill>
                  <a:srgbClr val="000000"/>
                </a:solidFill>
                <a:latin typeface="Gill Sans Ultra Bold Condensed"/>
              </a:rPr>
              <a:t>ana, Buzzy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Gill Sans Ultra Bold Condensed"/>
              </a:rPr>
              <a:t>se afeita</a:t>
            </a:r>
            <a:r>
              <a:rPr b="0" lang="en-US" sz="4000" spc="-1" strike="noStrike">
                <a:solidFill>
                  <a:srgbClr val="000000"/>
                </a:solidFill>
                <a:latin typeface="Gill Sans Ultra Bold Condensed"/>
              </a:rPr>
              <a:t> con un navaja y la crema de afeit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6239520"/>
            <a:ext cx="73152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</a:rPr>
              <a:t>Buzzy está listo para el d</a:t>
            </a: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  <a:ea typeface="Arial"/>
              </a:rPr>
              <a:t>í</a:t>
            </a: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</a:rPr>
              <a:t>a. </a:t>
            </a:r>
            <a:r>
              <a:rPr b="1" i="1" lang="en-US" sz="4000" spc="-1" strike="noStrike" u="sng">
                <a:solidFill>
                  <a:srgbClr val="808080"/>
                </a:solidFill>
                <a:uFillTx/>
                <a:latin typeface="Gill Sans Ultra Bold Condensed"/>
              </a:rPr>
              <a:t>Se diverte  </a:t>
            </a: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</a:rPr>
              <a:t>por jugando con sus amig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Gill Sans Ultra Bold Condensed"/>
              </a:rPr>
              <a:t>Cuando Buzzy esta muy cansado, se acuesta. Buenos noch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4:28:14Z</dcterms:created>
  <dc:creator>christensensar</dc:creator>
  <dc:description/>
  <dc:language>en-US</dc:language>
  <cp:lastModifiedBy>christensensar</cp:lastModifiedBy>
  <dcterms:modified xsi:type="dcterms:W3CDTF">2012-04-05T13:23:56Z</dcterms:modified>
  <cp:revision>4</cp:revision>
  <dc:subject/>
  <dc:title>LA RUTINA DE BUZZY EL ABEJA</dc:title>
</cp:coreProperties>
</file>